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Chapter" id="0">
      <p:sldLst>
        <p:sld r:id="rId20"/>
      </p:sldLst>
    </p:custShow>
    <p:custShow name="ELI Sect 1" id="1">
      <p:sldLst>
        <p:sld r:id="rId22"/>
        <p:sld r:id="rId3"/>
      </p:sldLst>
    </p:custShow>
    <p:custShow name="ELI Sect 3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19"/>
      </p:sldLst>
    </p:custShow>
    <p:custShow name="ELI Sect 4" id="3">
      <p:sldLst>
        <p:sld r:id="rId20"/>
      </p:sldLst>
    </p:custShow>
    <p:custShow name="ELI STP" id="4">
      <p:sldLst>
        <p:sld r:id="rId8"/>
        <p:sld r:id="rId9"/>
        <p:sld r:id="rId11"/>
        <p:sld r:id="rId13"/>
        <p:sld r:id="rId15"/>
        <p:sld r:id="rId17"/>
        <p:sld r:id="rId18"/>
      </p:sldLst>
    </p:custShow>
    <p:custShow name="Image/Math" id="5">
      <p:sldLst>
        <p:sld r:id="rId19"/>
        <p:sld r:id="rId22"/>
        <p:sld r:id="rId3"/>
      </p:sldLst>
    </p:custShow>
    <p:custShow name="VIs Con" id="6">
      <p:sldLst>
        <p:sld r:id="rId19"/>
      </p:sldLst>
    </p:custShow>
    <p:custShow name="Chapter menu" id="7">
      <p:sldLst>
        <p:sld r:id="rId22"/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ock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436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3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ssil Recor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400"/>
            <a:ext cx="825804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ing the Fossil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 Fossils and Absolute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t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solutions such as groundwater replace the original organic materials that were covered by layers of sediment with new materi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on petrifying minerals are silica, calcite, and pyr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bstitution of minerals for organic material other results in the formation of a nearly perfect mineral replica  of the original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ace fossi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ome cases, no part of the original organism survives in fossil form. But the fossilized evidence of past animal movement can still provide information about prehistoric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ce fossils in an important clue to the animal’s appearance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ossi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ossils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mpr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original organic material partially decays, it leaves behind a carbon-rich film. An imprint displays the surface features of the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lds and 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and or mud fills a mold and hardens, a natural cast for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ast is a replica of the original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ossils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prol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ized dung or waste materials from ancient animal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proli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be cut into thin sections and observed through a microscope. The materials identified in these sections reveal the feeding habits of ancient animals, such as dinosa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ossils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astrol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In many cases, these stones, which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gastrolith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rvives as fossi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liths can often be recognized by their smooth, polished surfaces and by their close proximity to dinosaurs rema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ossils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dex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 fossil  a fossil that is used to establish the age of rock layers because it is distinct, abundant, and widespread and existed for only a short span of geologic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ontologists can use index fossils to determine the relative ages of the rock layers in which the fossils are loc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ex Fossi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ex Fossi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" name="Picture 12" descr="80075"/>
          <p:cNvPicPr/>
          <p:nvPr/>
        </p:nvPicPr>
        <p:blipFill>
          <a:blip r:embed="rId1"/>
          <a:stretch/>
        </p:blipFill>
        <p:spPr>
          <a:xfrm>
            <a:off x="1830240" y="1523880"/>
            <a:ext cx="5484960" cy="439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dex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n index fossil, a fossil must  be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ddition,  organisms from which the fossil formed must have lived during a short span of geologic time, and the fossil must occur in fairly large numbers within the rock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ex Fossi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an use index fossils to estimate absolute ages of specific rock lay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rganisms that formed index fossils lived during short spans of geologic time, the rock layer in which an index fossil was discovered can be dated accur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an also use index fossils to date rock layers in separate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 fossils are used to help locate rock layers that are likely to contain oil and natural gas deposi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ex Fossils and Absolute Ag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ways in which entire organisms can be preserved as foss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examples of fossilized traces of organis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ndex fossils can be used to determine the age of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2414520" y="2209680"/>
            <a:ext cx="4314960" cy="3667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logic Map of Bedrock in O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ssil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leont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s are an important source of information for finding the relative and absolute ages of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s also provide clues to past geologic events, climates, and the evolution of living things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terpreting the Fossil Recor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most all fossils are discovered in sedimentary ro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ssil record provides information about the geologic history of Ear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an use this information to learn about how environmental changes have affected living organism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terpreting the Fossil Record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dead organisms that are buried quickly or protected from decay can become fossi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only the hard parts of organisms, such as wood, bones, shells, and teeth, become fossi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are cases, an entire organism may be pre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ome types of fossils, only a replica of the original organism remains. Others merely provide evidence that life once exi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mm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ncient civilizations mummified their dead by carefully extracting the body’s internal organs and then wrapping the body in carefully prepared strips of clo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ny cases, delicate features such as legs and antennae have been preserved. In rare cases, DNA has been recovered from a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r Se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ick petroleum oozes to Earth’s surface, the petroleum forms a tar s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 seeps are commonly covered by water. Animals that come to drink the water can become trapped in the sticky t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ins of the trapped animals are covered by the tar and pre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ost bacteria cannot survive freezing temperatures, organisms that are buried in frozen soil or ice do not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18T16:50:32Z</dcterms:modified>
  <cp:revision>675</cp:revision>
  <dc:subject/>
  <dc:title>No Slide Title</dc:title>
</cp:coreProperties>
</file>